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06056"/>
        <c:axId val="57237102"/>
      </c:barChart>
      <c:catAx>
        <c:axId val="76006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37102"/>
        <c:crosses val="autoZero"/>
        <c:auto val="1"/>
        <c:lblAlgn val="ctr"/>
        <c:lblOffset val="100"/>
        <c:noMultiLvlLbl val="0"/>
      </c:catAx>
      <c:valAx>
        <c:axId val="57237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06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5EC-C684-4039-AB70-3D692456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C36-D640-409C-BE2E-BE78DF9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75E-B41F-4EA9-B551-94E0CBC2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040-F97F-41EA-819B-9408BF18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77A-A2F1-4588-ABB4-60DE485D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326-2227-4C8C-A93F-DC2A05C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406-78D9-4852-8F4C-33A6F984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6AF-9DEA-4281-8C73-AA3EFFF0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91C-6478-4F92-A55F-5B48FE3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2E6-3EA3-43D2-9CC0-DF8EEBA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ADD-49C5-4E83-AF79-BA31C72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B31-412A-401B-B8EF-C3C668A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E3D9A-0532-4048-B72F-6FA1B066AF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