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205009"/>
        <c:axId val="59730874"/>
      </c:barChart>
      <c:catAx>
        <c:axId val="222050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730874"/>
        <c:crosses val="autoZero"/>
        <c:auto val="1"/>
        <c:lblAlgn val="ctr"/>
        <c:lblOffset val="100"/>
        <c:noMultiLvlLbl val="0"/>
      </c:catAx>
      <c:valAx>
        <c:axId val="597308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2050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4FAA-B876-4318-888C-0137ACD6D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B9A1-5E97-42F7-B65E-C423B678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1EA5-ADAB-420F-93A5-B5B6827A5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307D-8B68-445A-A5EB-734886EE9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ED41-4785-4D40-8E77-B32010F1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74F3-B553-4E78-97DD-459270A9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D7F4-E644-4046-9F44-685FC194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905B-0CDE-4078-94F0-C8415E70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D11E-675C-4E81-9F26-0BD2BFB3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502D-C44F-4D8F-83F0-569E4D70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62BC-A53D-47EF-BFB4-2174FE74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6A54-31A0-442E-9680-719CFB65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B1DB9-2685-4A33-AE8A-FB4175A7C4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