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9512"/>
        <c:axId val="99735017"/>
      </c:barChart>
      <c:catAx>
        <c:axId val="3160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5017"/>
        <c:crosses val="autoZero"/>
        <c:auto val="1"/>
        <c:lblAlgn val="ctr"/>
        <c:lblOffset val="100"/>
        <c:noMultiLvlLbl val="0"/>
      </c:catAx>
      <c:valAx>
        <c:axId val="99735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105-E30C-4A4B-9E54-8E760CD8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978-AB7E-4983-A913-854529C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FC5-1A0B-47E7-B87E-0343023B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630-0300-4FF8-AAD4-AE1F3642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177-6ACA-4C77-823E-AE9E880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FB0-C411-44B9-B44C-A6A25772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E75-C6A5-4205-B305-274A63C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306-D20D-490B-B597-DC1A788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F4C-E793-4423-9FA0-C91D579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E8E-154D-45AB-ABDF-A2D4332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9CF-8856-4E10-9D71-84A4D51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E82-1520-45F4-9BF3-4CCA963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B325-68EC-4C6E-AE13-032A46B59F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