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1716102"/>
        <c:axId val="79490964"/>
      </c:barChart>
      <c:catAx>
        <c:axId val="4171610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490964"/>
        <c:crosses val="autoZero"/>
        <c:auto val="1"/>
        <c:lblAlgn val="ctr"/>
        <c:lblOffset val="100"/>
        <c:noMultiLvlLbl val="0"/>
      </c:catAx>
      <c:valAx>
        <c:axId val="7949096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71610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AA9C1-D501-493E-96EA-C2E3E0053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E3740-6240-4EA1-93B6-377740F9A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12E85-A710-4FC8-8F66-1CC54A7EB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FBD2C-B9C9-4DD2-9FFD-C06F4E16E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BDD21-6358-44AB-AA17-879CB472A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9A1AE-E9FF-4AC0-AFB4-0CDAEC208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EFBFA-F53E-4EE2-917A-6EBFE8FCA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2F926-27E9-422D-A883-94DDB4076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38F50-AD68-40C4-86B9-F5DA91649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2F180-AEB6-4E76-96AB-36DE66569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64E08-DF2E-4A4F-B17E-0286019BD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51505-FA13-4C5A-9206-111BE699C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F198F9-5C0C-47CD-AF40-358C83F40F2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