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06874"/>
        <c:axId val="72027014"/>
      </c:barChart>
      <c:catAx>
        <c:axId val="72006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7014"/>
        <c:crosses val="autoZero"/>
        <c:auto val="1"/>
        <c:lblAlgn val="ctr"/>
        <c:lblOffset val="100"/>
        <c:noMultiLvlLbl val="0"/>
      </c:catAx>
      <c:valAx>
        <c:axId val="72027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06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436-9BF9-4EB5-A772-511008ED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7A4-C957-493F-BACA-EEEA2B04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875-1300-432B-BF14-400AF308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68B-FEC1-4F4A-BC98-68F88BE9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F08-FC4A-4733-889B-0A877309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027-BA35-4556-B9D9-8D99DA17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B60-932F-4748-90F9-03435EE1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699-91A9-49F6-8DE0-6C849FEE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31B-E312-4416-9DE7-7D5D8D52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D73-FC52-4CAE-9953-4D9AEA7E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AF2-4092-464C-850E-C57D99A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D00-AB7A-404E-A882-4FDE002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25C98-F3F1-4FC6-9233-E9E3716C6B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