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337890"/>
        <c:axId val="11971726"/>
      </c:barChart>
      <c:catAx>
        <c:axId val="613378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71726"/>
        <c:crosses val="autoZero"/>
        <c:auto val="1"/>
        <c:lblAlgn val="ctr"/>
        <c:lblOffset val="100"/>
        <c:noMultiLvlLbl val="0"/>
      </c:catAx>
      <c:valAx>
        <c:axId val="119717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3378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CBC8-D08A-49E4-A342-F57DCC79C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2DA4-BBDD-4C17-84EF-01EDE667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9A4E-34B4-4A07-8C75-65E2B6234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BA9D-60DE-4D78-A3A4-33267FEDD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0D59-052A-4C9A-8F5E-7F9D6AEE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3E3B-0B19-4F36-B6BB-D2CCFB0B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B249-BC20-4405-8FDC-756E4EE3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14D8-89CF-416C-AAA3-C50BF45E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1850-CA0B-4830-ACF0-CDC802F9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39A4-DFE0-4A04-84AD-32CE505B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56DE-083C-4DCD-BB82-B6743759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B7F4-D057-4644-95CD-E82A2A1A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C8C5C9-1C06-41E2-A53A-10BA13B040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