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55999"/>
        <c:axId val="57384406"/>
      </c:barChart>
      <c:catAx>
        <c:axId val="46255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84406"/>
        <c:crosses val="autoZero"/>
        <c:auto val="1"/>
        <c:lblAlgn val="ctr"/>
        <c:lblOffset val="100"/>
        <c:noMultiLvlLbl val="0"/>
      </c:catAx>
      <c:valAx>
        <c:axId val="57384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55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1DC-D139-4412-A0AC-AEA73F05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853-E051-4FB1-8B3B-103BB699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D71-A780-43B9-8239-664F3E7E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470-F351-430E-8484-C23E74F2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B71-0A68-46C2-9296-E844024A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CAD-81C1-4C12-8D6D-C6373261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D14-9878-41E1-81B5-A5FF26E5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C82-86A6-457E-A4F1-1A18D20B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F2B-A241-4EC9-AF21-0DD9DDA9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5B5-8F26-487C-A410-F81FF0D8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213-BB6F-4D50-B562-1C074B64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54B-5AA1-480E-8C3E-042937DA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7462A-1354-491C-8798-0F439ED3C2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