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99329"/>
        <c:axId val="12739850"/>
      </c:barChart>
      <c:catAx>
        <c:axId val="63599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9850"/>
        <c:crosses val="autoZero"/>
        <c:auto val="1"/>
        <c:lblAlgn val="ctr"/>
        <c:lblOffset val="100"/>
        <c:noMultiLvlLbl val="0"/>
      </c:catAx>
      <c:valAx>
        <c:axId val="12739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99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392-407B-4619-B7CD-7B499E57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9ED-C00F-46ED-855A-627EC6FC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8F7-D423-490B-9453-36FB50E7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B2B-15FD-42E9-AB34-4FEF15BF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849-1B49-452B-A3CA-6F96D83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E47-6651-46E0-909E-92412F4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6EC-D56C-4CF4-A112-2AD6108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930-417E-44F4-A504-C2FBD391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9F1-E9CC-4160-A851-2455EB5F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928-8035-487D-99FD-3A58AF5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729-A10A-4A72-BCDF-C8B8456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431-D679-4A22-81DD-3E6D6C9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144D6-6F12-4DEA-A6BB-2F10D40A0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