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65606"/>
        <c:axId val="7750308"/>
      </c:barChart>
      <c:catAx>
        <c:axId val="31465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308"/>
        <c:crosses val="autoZero"/>
        <c:auto val="1"/>
        <c:lblAlgn val="ctr"/>
        <c:lblOffset val="100"/>
        <c:noMultiLvlLbl val="0"/>
      </c:catAx>
      <c:valAx>
        <c:axId val="7750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65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9E2-ECEF-49B4-BDF7-76C1815D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2A0-DAAC-4E3F-9B2F-F720C93C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AAB-196B-4ECC-9B75-823DD2F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A0D-90DF-4741-86F0-1C989501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205-8AF9-4675-ADF0-1A3B3C0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E0A-2814-4D0B-86C0-9FB84AC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4D1-638E-4209-B5D1-D3828B3A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DE0-BF33-4732-B46C-007CEB0D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B08-FD91-40AA-B192-FAFDAB7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DB9-A79D-4E5A-9CDC-F9E696D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387-8512-4612-BE15-AD78954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1C6-6E2C-48F2-B8EB-8D30D58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F5E17-2337-42F0-8EAD-6E83334D53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