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58216"/>
        <c:axId val="46393949"/>
      </c:barChart>
      <c:catAx>
        <c:axId val="60958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93949"/>
        <c:crosses val="autoZero"/>
        <c:auto val="1"/>
        <c:lblAlgn val="ctr"/>
        <c:lblOffset val="100"/>
        <c:noMultiLvlLbl val="0"/>
      </c:catAx>
      <c:valAx>
        <c:axId val="46393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58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DEE-ABAB-4977-8B9C-62134390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433-B52C-4B85-AD90-82C155FF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463-CE3C-49AC-B294-3A50F3ED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378-64B2-4C08-9732-5489ACB7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C66-4240-4AEE-9657-45676B74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9B4-24BE-43DF-B584-3F0EFA92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E19-73A3-456F-9890-49522BFE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92D-ED93-4B7F-8B14-103651B6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D43-BF94-4104-A205-451F9EF4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814-EB67-4D1D-A176-3F589336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174-6A90-4038-A600-419B006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F37-F3FE-478B-9D2B-A5A15AB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6CB13-53A4-4331-BC72-49F88E53A8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