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562991"/>
        <c:axId val="70185610"/>
      </c:barChart>
      <c:catAx>
        <c:axId val="745629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185610"/>
        <c:crosses val="autoZero"/>
        <c:auto val="1"/>
        <c:lblAlgn val="ctr"/>
        <c:lblOffset val="100"/>
        <c:noMultiLvlLbl val="0"/>
      </c:catAx>
      <c:valAx>
        <c:axId val="701856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5629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8920-AD39-4704-97DF-D7DC8EB20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1BCD-B54C-4CE4-AA9D-A885B66C2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2C28-4AF9-4394-B6ED-B306691E6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9E80-BFC0-4F00-8A20-42DE3CA77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1335-B568-4BBD-BF76-42F84A824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BE22-65BD-4EDA-9DD0-9C213F399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97F4-A4BD-4559-A42B-9990AB607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3EA7-2A53-4168-83C7-DF912560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6469-DC29-4E19-BCD6-B75FB4E6B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0CBA-93AC-4C5B-ADFB-9DDB94B5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E557-9BFD-410B-A3DD-96F377AE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1C9C-B0DB-4FAB-AC40-DA1D32B6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600126-E19E-47F0-8351-D4675CDA279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