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30156"/>
        <c:axId val="673517"/>
      </c:barChart>
      <c:catAx>
        <c:axId val="78530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17"/>
        <c:crosses val="autoZero"/>
        <c:auto val="1"/>
        <c:lblAlgn val="ctr"/>
        <c:lblOffset val="100"/>
        <c:noMultiLvlLbl val="0"/>
      </c:catAx>
      <c:valAx>
        <c:axId val="673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30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CB5-4A6D-4BC3-BBA3-6BA674B1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3ED-FFB8-48E1-9653-0BBBA56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F8F-6ED2-4FDA-A1B1-0DDD1756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82F-379A-47F1-BD98-D2C4A004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6EF-84F0-4EA7-AEA3-8A46EAF2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720-1792-4CF2-B0F7-74FDE3A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23E-652F-4311-81C5-FAA84CFA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F42-3947-4C63-859E-901E2EE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F9D-CDBD-44A4-8D3F-B3A15FA9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B99-4F7D-4360-A8AA-E64718C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42D-D57A-40A1-A370-B04719C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7A6-F8FC-48D1-A28E-7E378188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E22C8-A647-41AC-9364-CD4CCAD66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