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98465"/>
        <c:axId val="53531496"/>
      </c:barChart>
      <c:catAx>
        <c:axId val="66998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31496"/>
        <c:crosses val="autoZero"/>
        <c:auto val="1"/>
        <c:lblAlgn val="ctr"/>
        <c:lblOffset val="100"/>
        <c:noMultiLvlLbl val="0"/>
      </c:catAx>
      <c:valAx>
        <c:axId val="53531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98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33C-1EA2-4692-9BA5-D8B21289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2EC-8917-4830-AE61-02CD3249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41B-D2A0-49AA-8E7F-B7F0698D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CD2-E5EF-489A-9B37-67B04750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DB9-A89A-47FC-8BB2-92044A85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8D9-4206-465D-8033-E92E7C85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38B-B12B-4A85-8521-90F4DEBB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C0A-4AB6-4DDD-9F7A-C2C892DF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E77-A6FD-4544-8ACB-A6634188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F48-2C2E-42B5-A364-11896C8D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CEF-28E7-442B-B4F4-8B17D2A6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FE5-E799-4317-B504-D06FE902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0161F-4F60-4687-855D-544AEE8776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