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681739"/>
        <c:axId val="94835896"/>
      </c:barChart>
      <c:catAx>
        <c:axId val="336817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35896"/>
        <c:crosses val="autoZero"/>
        <c:auto val="1"/>
        <c:lblAlgn val="ctr"/>
        <c:lblOffset val="100"/>
        <c:noMultiLvlLbl val="0"/>
      </c:catAx>
      <c:valAx>
        <c:axId val="94835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817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962-67C6-4B88-A7A9-970042D1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309E-76A9-4B78-8210-D1483855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F752-0D8C-4A79-8A9E-0660B98F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0EF8-7ECC-4BD9-AF59-A98694B8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A53-CBED-4C41-8DA0-B92C0E4F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D489-13F2-4B8E-8743-2954536E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EE0C-9CDE-40BA-AE87-1373E970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657A-CFA8-4802-AF1E-31D325C5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00E-17AF-4096-8E20-BFA08072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79A-140A-4218-9BAC-B11BE310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53FC-2699-45E2-8466-E6F4DF69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B02-8D8C-4503-BB65-44714322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8249E-9E58-433A-A4AA-F8F6ACFFA0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