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20562"/>
        <c:axId val="29111824"/>
      </c:barChart>
      <c:catAx>
        <c:axId val="49620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11824"/>
        <c:crosses val="autoZero"/>
        <c:auto val="1"/>
        <c:lblAlgn val="ctr"/>
        <c:lblOffset val="100"/>
        <c:noMultiLvlLbl val="0"/>
      </c:catAx>
      <c:valAx>
        <c:axId val="29111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20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1E3-645B-4769-8E0E-C648AC99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E43-2C96-4199-ADBF-BFF6A487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FFA-66B3-4A56-ABD3-8736F491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C20-6663-435F-B97E-3854155B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E20-6ED7-464D-93F3-FF8C67D2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6F1-D88C-4D11-8253-BEB821BE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B51-507E-47EF-95DA-B5E9E642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0E4-599D-44FC-B0F3-0B49674A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A8D-E941-4B99-B563-E9BA5C0E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F65-9B3A-4804-95B7-33B20F09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606-0F61-4AED-B544-4363B36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6EE-C248-4E65-9269-6E7B100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A1217-2305-4E26-B77A-EB5101938F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