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80409"/>
        <c:axId val="49498848"/>
      </c:barChart>
      <c:catAx>
        <c:axId val="95280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8848"/>
        <c:crosses val="autoZero"/>
        <c:auto val="1"/>
        <c:lblAlgn val="ctr"/>
        <c:lblOffset val="100"/>
        <c:noMultiLvlLbl val="0"/>
      </c:catAx>
      <c:valAx>
        <c:axId val="49498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80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390-3F41-49EA-B900-6EDDB4A0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A17-7252-45E4-81AF-EFCFEABB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493-902C-49E9-B318-92123E94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3FA-2B89-47E4-AA0A-79FBE33E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225-573E-4F6E-9216-31E9FE20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12E-6439-4B40-85B5-80864BA7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2F7-8377-44EE-9349-CA62CFFB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184-2B3E-4126-B130-0AA5D8A2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DC8-6480-4274-9A8F-6494E94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FBD-6E31-4CEB-8134-752F385B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A05-EDA5-4D09-8E6F-6A652B7E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682-AC59-49B3-A0CF-CA84DCD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BB057-F850-49D3-8A97-3AB1B73B18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