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935585"/>
        <c:axId val="25198536"/>
      </c:barChart>
      <c:catAx>
        <c:axId val="429355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98536"/>
        <c:crosses val="autoZero"/>
        <c:auto val="1"/>
        <c:lblAlgn val="ctr"/>
        <c:lblOffset val="100"/>
        <c:noMultiLvlLbl val="0"/>
      </c:catAx>
      <c:valAx>
        <c:axId val="251985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355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BDBF-AA98-41BC-8774-667DC8937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8154-2974-42BE-93EE-B6B46647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4135-0A30-409A-8BC1-46844AEFD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3170-B094-4017-AAC5-9312BF80E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1FCB-EE40-4B49-BE20-09983AF5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DBCD-F9E7-45AE-A6E3-95096070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30CC-67AB-4BB5-B442-E2FB4CB0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0907-FF09-42DF-ADEE-0C33BB69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B3F9-352C-4486-96F1-7D63C5F2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6827-3EF7-4E72-A235-8F1B8695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FC29-7796-4DD0-A647-64A6C15D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A54F-3489-484D-8279-534B17AC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FB1FC-32EC-419C-924A-3C7FF2F70E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