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26357"/>
        <c:axId val="64613994"/>
      </c:barChart>
      <c:catAx>
        <c:axId val="18626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13994"/>
        <c:crosses val="autoZero"/>
        <c:auto val="1"/>
        <c:lblAlgn val="ctr"/>
        <c:lblOffset val="100"/>
        <c:noMultiLvlLbl val="0"/>
      </c:catAx>
      <c:valAx>
        <c:axId val="64613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6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FE5-27C5-422F-871B-0D947B57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CBD-9733-49FF-B699-3AFA88B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79D-9901-411D-B2DC-369A2166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86C-19D6-4334-BF4F-958F0936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93F-EF25-4F5E-BD12-CDC19AA3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E1D-908D-4856-A309-D526E1DB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DA2-B907-45F6-A54B-569961B2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E58-D44E-4481-BF6F-02663C2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072-22F9-4E28-A333-CDCDF62F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746-C95F-460C-A7FC-7FCFB2D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C91-217D-4300-8BC8-B78C5C9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EF9-DAA8-495E-8ADD-D480A40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FD8EF-2FE3-4429-9AE0-26BD9848DF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