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24773"/>
        <c:axId val="67049015"/>
      </c:barChart>
      <c:catAx>
        <c:axId val="14824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9015"/>
        <c:crosses val="autoZero"/>
        <c:auto val="1"/>
        <c:lblAlgn val="ctr"/>
        <c:lblOffset val="100"/>
        <c:noMultiLvlLbl val="0"/>
      </c:catAx>
      <c:valAx>
        <c:axId val="67049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24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F9B-10AC-4624-B98B-91124D7A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F99-A590-4407-940B-26B49CA3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079-93FD-4836-B389-254BCC43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AB2-538B-4A5F-9621-77ACDA89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2E1-49B1-4FB7-9BF4-8A42E035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FAC-4635-4CFF-B1AC-A7E8B301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89A-1DE3-4770-B479-880E9AD6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D6E-3451-4B16-B8B1-8AD61C3E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2AB-6948-4763-981F-B052ADE8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4B8-0697-4AFB-A5BA-0E1A1330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710-49EC-4DD3-B67B-4E335DAA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FDF-05E1-4895-B486-ABE0CAE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CBA9F-D9D4-4FA3-8A02-3E783D9B85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