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070098"/>
        <c:axId val="60535828"/>
      </c:barChart>
      <c:catAx>
        <c:axId val="810700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35828"/>
        <c:crosses val="autoZero"/>
        <c:auto val="1"/>
        <c:lblAlgn val="ctr"/>
        <c:lblOffset val="100"/>
        <c:noMultiLvlLbl val="0"/>
      </c:catAx>
      <c:valAx>
        <c:axId val="605358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0700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F807-2C2B-4D69-91C9-7559DF66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E13D-C934-4E62-8336-B44422133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ED5D-41A2-4BB5-ADA4-C8439329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DEB1-77E5-4EBD-982D-0027F065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A9C9-EFD3-456B-A540-C5180D8C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F533-7E76-46B4-B2F6-58DD898B2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E455-8361-477E-B880-8FD9ECE0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1794C-5662-4AA9-9787-8A1BBC35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183E-6A86-4AEA-A560-89B77123F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73AF-9DC7-4A16-9053-208F3435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80F-7148-42AB-8181-42BC552B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A3C9-ABCB-4A21-A43D-8C1A842E5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2BFDD-DC7B-4D97-B594-557FAA324F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