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8256989"/>
        <c:axId val="92786390"/>
      </c:barChart>
      <c:catAx>
        <c:axId val="2825698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786390"/>
        <c:crosses val="autoZero"/>
        <c:auto val="1"/>
        <c:lblAlgn val="ctr"/>
        <c:lblOffset val="100"/>
        <c:noMultiLvlLbl val="0"/>
      </c:catAx>
      <c:valAx>
        <c:axId val="9278639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25698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FFCE-1FEC-45AF-BD93-D949A0105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911D-673A-4540-956F-0E745403A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A5C4-10F8-4467-8552-24A6DA1CF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130D-EF23-432E-99B2-7173F7B9C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779A-E7AB-47CE-9928-5FDBF3945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A29E-62C5-43D2-9B36-CD061B6BF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6302-39A0-444A-846D-230EB6108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603E-2307-43B2-81BE-FB06031A0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0E61-9A23-4601-9BC9-FBEA80651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0890-848B-4721-B96F-EA4F0B099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BFFB-E7E5-4201-A4CB-D630019E6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9CC2-F388-4003-A461-F9E6CDDB6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3D3093-7654-408A-8118-F578B9A9786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