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5936023"/>
        <c:axId val="20116763"/>
      </c:barChart>
      <c:catAx>
        <c:axId val="8593602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116763"/>
        <c:crosses val="autoZero"/>
        <c:auto val="1"/>
        <c:lblAlgn val="ctr"/>
        <c:lblOffset val="100"/>
        <c:noMultiLvlLbl val="0"/>
      </c:catAx>
      <c:valAx>
        <c:axId val="2011676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93602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EEA84-3C63-4DC1-B6A3-701ACF25E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AF07F-D9D7-4B3C-A775-B0CB7A4B2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A0964-85E8-4781-8DB5-1E3BC7B92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F482A-8A4E-454A-8E1A-E2EDAA4FA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03203-9EEF-4E60-AB17-97045B2C8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1464C-EFA6-4DC4-9F63-8333A92D2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EAF77-4631-4100-9062-3870B1AB4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2BF36-BAE2-4054-9194-E8AD0A19D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3A1CD-1728-4F4F-B37D-D4E8EA0B0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E9FE2-8C80-49BD-8D00-6B627A73E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64347-AF13-4142-8BAC-CDF1A3F29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C2B27-E942-4247-AE91-09A05032D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0DC732-3750-4634-808C-87842E57568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