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471286"/>
        <c:axId val="50891288"/>
      </c:barChart>
      <c:catAx>
        <c:axId val="254712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91288"/>
        <c:crosses val="autoZero"/>
        <c:auto val="1"/>
        <c:lblAlgn val="ctr"/>
        <c:lblOffset val="100"/>
        <c:noMultiLvlLbl val="0"/>
      </c:catAx>
      <c:valAx>
        <c:axId val="508912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4712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E38C-C34A-4935-ABFE-9B255E9D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5A86-1F79-4398-8557-98284D73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F10F-6E74-43A2-A682-49EADA52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828D-84DE-41B1-895F-C1C00B92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DAD7-1394-43F5-8612-A31A5B90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1C97-F07A-4FA7-9C01-BBA50C69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38D5-A9E9-432A-BF61-2D5D868F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38CD-E16C-4453-9CA6-85CF7489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7157-85F2-4935-9B7F-F4EFDAD8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C473-4235-4D4D-8E4E-9BE18D76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7395-1516-4A21-91AA-2750D2CF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C4FB-9506-4C38-923F-2408C6D0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96323-09DB-488B-907E-FF9006093F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