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25126"/>
        <c:axId val="65958929"/>
      </c:barChart>
      <c:catAx>
        <c:axId val="16025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58929"/>
        <c:crosses val="autoZero"/>
        <c:auto val="1"/>
        <c:lblAlgn val="ctr"/>
        <c:lblOffset val="100"/>
        <c:noMultiLvlLbl val="0"/>
      </c:catAx>
      <c:valAx>
        <c:axId val="65958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25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C52-22E1-4D6A-87D1-A22137AE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99F-ED72-4C5A-BD8D-CEC96E4B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D0C-8196-4D35-8D63-9F869C50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D45-C6E0-4A65-ACF1-2928E4B5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CA7-1150-4363-9242-C64E8200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1C45-AB23-4F83-8566-D6E93520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6E8-EF03-474D-8193-E33D3B4F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C43-6F62-4D31-AB9E-E7EDC84B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8AE3-B48A-45FD-9C14-7497FFD2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2A8-EAA0-43A5-9BEA-8734D065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CD0-A1BE-4478-AFC7-9200D9F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775-CA2F-4E89-B104-E1BEB3E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5B43E-71B8-4902-A1EE-A92D314B33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