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04767"/>
        <c:axId val="65409887"/>
      </c:barChart>
      <c:catAx>
        <c:axId val="98304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09887"/>
        <c:crosses val="autoZero"/>
        <c:auto val="1"/>
        <c:lblAlgn val="ctr"/>
        <c:lblOffset val="100"/>
        <c:noMultiLvlLbl val="0"/>
      </c:catAx>
      <c:valAx>
        <c:axId val="65409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04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B19-93E5-43C0-9986-12E19248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E36-1380-4909-A6FE-DBD2DA45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7C8-D61A-4BAF-BC81-A2AAEA78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497-8424-4953-AE43-0C294AEA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430-75AD-4515-AB20-33A5790F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174-1322-4089-BAD4-1B9D52E1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730-DA41-4770-A8F2-67A852A8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9A0-87F5-4C8F-A897-DCC2F042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B12-F49A-4A0D-AA8C-B5788D2A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7FE-4696-4A40-83AA-CBD42627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D06-2741-4E5F-B096-E7C55F32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F91-7EE7-443C-96A9-9E03D5EF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A563A-89CC-4B11-97C7-C1D210A122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