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46106"/>
        <c:axId val="63718313"/>
      </c:barChart>
      <c:catAx>
        <c:axId val="63046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18313"/>
        <c:crosses val="autoZero"/>
        <c:auto val="1"/>
        <c:lblAlgn val="ctr"/>
        <c:lblOffset val="100"/>
        <c:noMultiLvlLbl val="0"/>
      </c:catAx>
      <c:valAx>
        <c:axId val="63718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46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08F-8759-4899-917F-69BE3D33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557-8632-4663-AB10-BC21337E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73A-C6EC-45E6-A580-5D734B3B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5CD-D23B-4983-B5B1-98D99E57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63D-7421-447D-9644-6AFFFAEC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A08-E447-4EE7-8AA2-CA3F92F2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246-E5A2-469F-817C-05BCC125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2F5-402A-4483-98D4-4D5FE4D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8BA-A912-404D-A671-D917E6D0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548-61BC-40C7-8D59-8C7416F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571-E813-46E9-B3CB-633CD631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B75-A9C2-4EB0-84AB-DDE8CC08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71182-3C0E-4DC6-A72F-26CEC31B96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