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64354"/>
        <c:axId val="35089566"/>
      </c:barChart>
      <c:catAx>
        <c:axId val="19664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9566"/>
        <c:crosses val="autoZero"/>
        <c:auto val="1"/>
        <c:lblAlgn val="ctr"/>
        <c:lblOffset val="100"/>
        <c:noMultiLvlLbl val="0"/>
      </c:catAx>
      <c:valAx>
        <c:axId val="35089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4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9F4-F4AE-47D4-9A83-23E7E053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633-810A-4CA1-A440-CA7890B4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C71-EC07-4B40-AB4A-F321B1A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A6C-4DCE-4CFA-98E1-F43D66F1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1A7-1D20-4C60-A0B0-0A0776E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E4F-E6BE-4CB3-AE26-6F58473C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371-C34F-41F3-888C-5C0B57D6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DB5-E735-4B9C-92C8-44BD55A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2F5-C4BF-4FBA-9A42-CCDBAFD9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6D2-BCC4-42E4-A142-D64DF61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5EB-4F48-4AE9-A56A-624119B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EF3-4009-45F5-A5DB-92279452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18676-4641-4F57-A309-AC6E76F7D9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