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28446"/>
        <c:axId val="96393054"/>
      </c:barChart>
      <c:catAx>
        <c:axId val="55328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93054"/>
        <c:crosses val="autoZero"/>
        <c:auto val="1"/>
        <c:lblAlgn val="ctr"/>
        <c:lblOffset val="100"/>
        <c:noMultiLvlLbl val="0"/>
      </c:catAx>
      <c:valAx>
        <c:axId val="96393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28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0A9-78C6-44C9-B26A-B88AB2CB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852-3B3B-43A0-A747-C9DD0E11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F04-1143-4C6F-A7AB-B14D30C5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40B-98BA-4DBC-BE07-1E57C430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11A-E51B-4B6D-9C81-2857ACE6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9FA-5559-4F9F-9EF0-2745D51A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DEF-8BC4-44F0-95DF-F80618D4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84B-889D-4C23-B6CF-D589A5EA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D84-C377-4FC6-A8C5-6E81FD82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33F-3B7C-491C-A213-A20F9EF2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D78-7232-457C-A04D-4DAD430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D4E-397A-4675-A655-6682962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83369-B9B9-4AC2-BA64-F9495161C1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