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4535"/>
        <c:axId val="42127647"/>
      </c:barChart>
      <c:catAx>
        <c:axId val="91214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7647"/>
        <c:crosses val="autoZero"/>
        <c:auto val="1"/>
        <c:lblAlgn val="ctr"/>
        <c:lblOffset val="100"/>
        <c:noMultiLvlLbl val="0"/>
      </c:catAx>
      <c:valAx>
        <c:axId val="42127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4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930-8662-44BF-A37A-5B231E5A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2F8-8730-4A0B-B372-91F3CAD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D0C-840C-4704-B9BD-3DF78DF6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80D-FF82-4928-A23B-7231FD7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712-DF72-46A7-95E4-06FE01C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5E3-1BB3-4F2E-BC6D-B8EB516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755-3D4F-417E-B34B-6525131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C3E-4BF4-4CAD-B255-AC525CF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3C3-E53B-461B-8CCF-79B86EF9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DEB-4E05-4D77-BAED-DB544D7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EE9-585C-4EA8-8D45-E4D982A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7EB-476A-43D2-855F-E2DB663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937EE-FE6D-4607-9867-7C353A867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