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56171"/>
        <c:axId val="51754690"/>
      </c:barChart>
      <c:catAx>
        <c:axId val="774561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54690"/>
        <c:crosses val="autoZero"/>
        <c:auto val="1"/>
        <c:lblAlgn val="ctr"/>
        <c:lblOffset val="100"/>
        <c:noMultiLvlLbl val="0"/>
      </c:catAx>
      <c:valAx>
        <c:axId val="517546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561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2BE-D665-4848-990E-6C320878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350F-172D-4924-99FD-30CCE783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B69A-947B-4781-8701-63590DE2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907-B910-4186-87F3-BAE49F14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76A3-383A-489D-BD98-9EE1D7FF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EC16-01F0-4DAF-B9BA-9D9A53A4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231-C7F7-4C3E-9B90-8EB31C16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11F-19E9-45C2-ADFF-DBA0BE01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4ECB-D6CA-411D-A1BD-039DBBFE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2A9-C0E3-42AA-A130-BF8007E8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6A0-8DD7-4641-AFAE-891F113C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CF1-3BD1-407D-8A51-017AE632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81622-ADD9-4427-B186-50935220E4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