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09481"/>
        <c:axId val="43001055"/>
      </c:barChart>
      <c:catAx>
        <c:axId val="98009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01055"/>
        <c:crosses val="autoZero"/>
        <c:auto val="1"/>
        <c:lblAlgn val="ctr"/>
        <c:lblOffset val="100"/>
        <c:noMultiLvlLbl val="0"/>
      </c:catAx>
      <c:valAx>
        <c:axId val="43001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9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B27-BA23-4710-B0BB-356761EA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F8F-0187-4940-8E15-BFE8FB76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93E-670B-4E3C-98F7-70410906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FB6-A8E7-4AA9-9987-1CD90AC8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05C-CB32-42F6-824C-F0A7FE47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AD7-A4A1-4315-B362-FD4F195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D59-5483-45A8-9C7E-9844737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78E-E115-4CD1-97BB-188A7D35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AAF-B715-4323-A1F9-66926D2D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521-E38A-4993-87E7-15F59E68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960-713D-4ED4-B291-2645DB2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736-440B-4CAC-9CEB-9F30322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66F3D-B3D8-46B5-8DA5-52606F6647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