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45188"/>
        <c:axId val="28080950"/>
      </c:barChart>
      <c:catAx>
        <c:axId val="34545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80950"/>
        <c:crosses val="autoZero"/>
        <c:auto val="1"/>
        <c:lblAlgn val="ctr"/>
        <c:lblOffset val="100"/>
        <c:noMultiLvlLbl val="0"/>
      </c:catAx>
      <c:valAx>
        <c:axId val="28080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45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987-4C75-4D99-8B62-4395AE59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158-3321-4F9B-BD62-BE724DD4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19C-F20D-4286-AA5C-E840984D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F20-ACCF-4E5F-BD1E-ADBA2070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ACB-819B-4B9D-A848-D4595A84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BED-679A-49B5-9F07-9CA0FE1C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7FF-486D-45D3-B4DC-CFA44EED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15E-8F32-4BBE-97F4-7DF22665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BFC-44F0-4F8E-86CD-5E143335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E6B-8D85-4172-AFB6-20F6CEE2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373-DB19-4A6D-8BDB-F8D61269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AB4-327F-4DE1-AA92-D91ED7AF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7B49F-4DE3-4BC1-AB4B-D78F7ED0F3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