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70111"/>
        <c:axId val="21222541"/>
      </c:barChart>
      <c:catAx>
        <c:axId val="14670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22541"/>
        <c:crosses val="autoZero"/>
        <c:auto val="1"/>
        <c:lblAlgn val="ctr"/>
        <c:lblOffset val="100"/>
        <c:noMultiLvlLbl val="0"/>
      </c:catAx>
      <c:valAx>
        <c:axId val="21222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70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1CA-ED8C-498F-85BF-63D956E3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A7C-25A4-433D-A470-00C71DF6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9F7-01D0-482F-A683-62B55DD7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39A-EB6D-486A-B6F9-77F30B52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648-5362-43BA-BEB2-CE783108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C14-62BB-44FD-89AE-67CDCE1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802-82D1-42EE-979A-3462A21E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826-A3D5-4B7F-8C2F-C8CA1B30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8A7-DDB7-4963-B51D-8AA8E45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7EF-6F64-43F6-957B-F0C9009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B63-F96B-4F91-865E-D629A6C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132-115C-4EA7-9990-1740E6F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BAD18-5064-47F5-839C-2B352EAB52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