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42443"/>
        <c:axId val="21646986"/>
      </c:barChart>
      <c:catAx>
        <c:axId val="22842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6986"/>
        <c:crosses val="autoZero"/>
        <c:auto val="1"/>
        <c:lblAlgn val="ctr"/>
        <c:lblOffset val="100"/>
        <c:noMultiLvlLbl val="0"/>
      </c:catAx>
      <c:valAx>
        <c:axId val="21646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2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3CC-8839-4AA5-91F1-DB702561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772-8532-4964-8277-55632001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83E-8F2B-401E-8609-A3097FD1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A28-658B-44C0-A5AA-989D8810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9C1-622D-47C9-8916-44B3E8D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282-F9E2-4F5A-A1FB-33EA69A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BB6-723C-44C6-999F-3146C363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202-FB7E-47CC-8F13-F73796F1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98E-2B52-4A2C-9C6C-5500A89E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DEA-1D19-4693-A399-77C356E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0BC-71DC-4E7F-B0E8-4A10D6E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491-8BA5-4B20-BC5C-DE93897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0CC72-53F9-4750-8550-3BA8979727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