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48943"/>
        <c:axId val="93127330"/>
      </c:barChart>
      <c:catAx>
        <c:axId val="2524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27330"/>
        <c:crosses val="autoZero"/>
        <c:auto val="1"/>
        <c:lblAlgn val="ctr"/>
        <c:lblOffset val="100"/>
        <c:noMultiLvlLbl val="0"/>
      </c:catAx>
      <c:valAx>
        <c:axId val="93127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7C8-DAE2-4822-8758-E3B50D3D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835-9FF9-4E19-9733-375D48C6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9B9-168D-4D5C-A5AB-35DBCC5F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52D-B255-4369-9C29-1C93E180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633-FDD6-4B38-A09C-E50A03F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290-5B73-41FF-AE09-7F08EDCC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BBC-9E81-4397-BAE6-C0F71A33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A0E-BDDD-4F5C-A553-8AF16F81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9FC-50FA-4A9E-9267-3855DDE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68B-F55C-4EB2-9F71-A0DEE4A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766-926C-49B4-B692-552B669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DE8-9782-49DF-816A-74CB9CC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9BDC-EF72-4B9A-AB0F-2C11E04274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