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67125"/>
        <c:axId val="89804771"/>
      </c:barChart>
      <c:catAx>
        <c:axId val="720671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04771"/>
        <c:crosses val="autoZero"/>
        <c:auto val="1"/>
        <c:lblAlgn val="ctr"/>
        <c:lblOffset val="100"/>
        <c:noMultiLvlLbl val="0"/>
      </c:catAx>
      <c:valAx>
        <c:axId val="898047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671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A61E-DB82-4AAB-A349-BDBBD31C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E3AA-88AF-4A20-9F9A-64832167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4F1-81B7-49A0-BE8D-04E005BE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F8F-6B8A-4C1C-983E-F8D0B1EC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6B82-4F71-460B-B655-3F80C1BC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EEB-0C4D-470C-AE76-F74CCA5D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C62-96F3-4895-B554-3983A908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2B2-444E-43DB-AACB-F9AFE4C4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0237-892F-4876-8958-0A67B630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F181-8B40-45ED-8583-622AE747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43B-6680-48BF-8C4D-8BB00C12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E6C-18DC-41E5-AB2B-47A64567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B730E-644F-4A9F-9982-7BD7921604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