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1148003"/>
        <c:axId val="62335422"/>
      </c:barChart>
      <c:catAx>
        <c:axId val="1114800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335422"/>
        <c:crosses val="autoZero"/>
        <c:auto val="1"/>
        <c:lblAlgn val="ctr"/>
        <c:lblOffset val="100"/>
        <c:noMultiLvlLbl val="0"/>
      </c:catAx>
      <c:valAx>
        <c:axId val="6233542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14800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A3EAD-A9F0-48F6-A0E8-12E9300A5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63F49-5551-4258-8020-3A24F5FCF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96AF9-B9D4-4486-85CD-929AF553F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61F28-33B7-4619-B09B-D99B65894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F330B-204B-48F8-A8C1-EA2A6A4E5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5F79E-1899-4FFE-AA40-7BD33F4C7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95C85-7B73-454E-86B3-CDA5E8197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224B2-073F-431C-8D26-286FE408A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B3494-0BCF-4415-91F6-AC9B5D2B5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FF444-82B6-4457-A200-966007C79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E1C7E-9208-47B0-9953-AB822F410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D08F5-FBAE-40F5-8A82-7DD4CFA8B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A581E0-24B5-4D92-AD1C-E3843DBA7E4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