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88839"/>
        <c:axId val="48416057"/>
      </c:barChart>
      <c:catAx>
        <c:axId val="62988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16057"/>
        <c:crosses val="autoZero"/>
        <c:auto val="1"/>
        <c:lblAlgn val="ctr"/>
        <c:lblOffset val="100"/>
        <c:noMultiLvlLbl val="0"/>
      </c:catAx>
      <c:valAx>
        <c:axId val="48416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88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D42-259B-406B-9A0D-56C9E488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3F5-41A4-4FE7-B872-8F90F4C7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BB9-4E60-42D8-9909-257AF438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107-8B79-4968-AB62-150E2F1A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C4A-E794-4C1E-A1FC-B5C4268A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4E1-0764-46B6-A733-4E2096DA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A39-6430-4E60-BE09-83184BAC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AF3-2F17-417E-BF42-2C84235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EDC-87DD-4392-9003-BC7F52AA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BDF-0C0D-4229-ABF7-9304E69D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261-07E5-4248-BF1B-435BFB36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A7A-F9D0-4A01-9231-63742592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03EDD-2068-466F-9978-82E7FE60AF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