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22242"/>
        <c:axId val="720579"/>
      </c:barChart>
      <c:catAx>
        <c:axId val="53022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579"/>
        <c:crosses val="autoZero"/>
        <c:auto val="1"/>
        <c:lblAlgn val="ctr"/>
        <c:lblOffset val="100"/>
        <c:noMultiLvlLbl val="0"/>
      </c:catAx>
      <c:valAx>
        <c:axId val="720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22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F25-5F22-49B7-BDE8-BDFB0B8E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0A7-C138-459C-91EA-CD710B72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359-FBCF-433A-B851-C5625E49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297-12DE-4B9A-912C-5E393E03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7B5-301D-47A6-AA1A-27D399CF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3F9-0D4F-477D-9E06-6CA7673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6E5-D5A7-4FE6-A5BF-A1C08965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27D-D577-4E75-825C-279D16F9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2A6-F3D1-4B17-A1C8-18822930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2A2-D121-436E-8F35-2040C08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00C-B75B-4528-A814-DD52D15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D51-F8F4-4FEE-A7BD-BD53810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26635-1297-4E2D-9353-98F8D5ABE0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