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61153"/>
        <c:axId val="38479901"/>
      </c:barChart>
      <c:catAx>
        <c:axId val="73961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79901"/>
        <c:crosses val="autoZero"/>
        <c:auto val="1"/>
        <c:lblAlgn val="ctr"/>
        <c:lblOffset val="100"/>
        <c:noMultiLvlLbl val="0"/>
      </c:catAx>
      <c:valAx>
        <c:axId val="38479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1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B48-2430-4DFD-A184-BEB7CEB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55F-0B7C-4C04-B5C2-EE03743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384-D9E1-462D-9F7C-51EDD936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D70-E116-4C0B-905E-61E02507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A42-1B7A-42BC-86FC-D91E51A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EB7-36B4-4170-9D65-4292379D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BD5-C354-430B-8322-B0EAE7B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352-A422-4511-A1D3-970711E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FA5-697B-4883-ADFE-8088A8B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FF0-18D1-4C5D-AF2C-4F77236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800-6AA5-41E8-87CD-005A0AC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58E-F8C3-4A3A-B046-0FA4A01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5B8B7-CCFB-4C0F-97D2-66C4ABFEA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