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7474"/>
        <c:axId val="39877998"/>
      </c:barChart>
      <c:catAx>
        <c:axId val="2397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77998"/>
        <c:crosses val="autoZero"/>
        <c:auto val="1"/>
        <c:lblAlgn val="ctr"/>
        <c:lblOffset val="100"/>
        <c:noMultiLvlLbl val="0"/>
      </c:catAx>
      <c:valAx>
        <c:axId val="39877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7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288-FC69-45E2-BFA4-1C7D9AD6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407-82E9-4BD9-B35A-7D001369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C65-F987-4BA4-88CD-B1A99397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FA4-1FFF-4A5C-9191-A85C701C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808-49A6-4DCF-AEE8-FDAC1EA2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358-C2BE-45C8-A6CC-4CD5CAF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3CA-E109-4077-BDDB-D0A59728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81A-F9ED-4032-9889-0877CEC8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216-248E-44CD-B87B-F4634BE4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BCA-0265-4AB0-9016-A9CE3D7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68E-C0A7-4BB1-9812-B46808ED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5731-366F-47EE-968E-ADCA7624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B56B0-5080-4029-8E6D-7CA8A8F9FF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