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87107"/>
        <c:axId val="79846049"/>
      </c:barChart>
      <c:catAx>
        <c:axId val="42687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46049"/>
        <c:crosses val="autoZero"/>
        <c:auto val="1"/>
        <c:lblAlgn val="ctr"/>
        <c:lblOffset val="100"/>
        <c:noMultiLvlLbl val="0"/>
      </c:catAx>
      <c:valAx>
        <c:axId val="79846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87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B50-AB7B-453E-B338-0D6B0146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BE6-FB01-4761-9D13-1B23F021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506-51BD-4D94-A156-38F0EE9D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6A3-9434-46F3-831E-31A44A77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B5C-445D-4CA7-9BC9-03AEE4B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CAB-817A-4101-A721-945D387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B99-F700-4B2C-B88C-B10348CA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719-1B6B-4E0E-BF61-68CF1984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E75-DEBE-4E0B-A121-E37CDA72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AC9-5E15-43BD-8EAB-C9A0BB8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E8F-C2D9-40BB-BCE1-8E90F203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4BC-A70E-4186-9174-93C14EB4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C2685-EF05-4BAD-8619-92A11E92B7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