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1377"/>
        <c:axId val="56975579"/>
      </c:barChart>
      <c:catAx>
        <c:axId val="37861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5579"/>
        <c:crosses val="autoZero"/>
        <c:auto val="1"/>
        <c:lblAlgn val="ctr"/>
        <c:lblOffset val="100"/>
        <c:noMultiLvlLbl val="0"/>
      </c:catAx>
      <c:valAx>
        <c:axId val="56975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1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3BB-B2BE-4C93-8969-1D51D5CC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D96-C28B-4809-8483-3670108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C87-A449-4A20-868C-F0B94397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D6A-BCCF-4EAD-942B-DC1378A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227-A3F0-4C06-AA3D-F47214E3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DF8-D64F-4F07-8201-F861658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AC4-AF89-4258-B66B-DD594DA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2AC-8031-47D8-A9F2-CAEF1CC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C71-3E91-4666-860F-D6B04BA8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E46-3662-4D8C-B474-C6CF680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F4E-E02F-4FA6-BC40-5AD7EBF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2D9-567A-4E96-8E69-B60FDB0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3E3FB-C938-40F6-AF85-364FB5950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