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50886"/>
        <c:axId val="86247837"/>
      </c:barChart>
      <c:catAx>
        <c:axId val="11750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7837"/>
        <c:crosses val="autoZero"/>
        <c:auto val="1"/>
        <c:lblAlgn val="ctr"/>
        <c:lblOffset val="100"/>
        <c:noMultiLvlLbl val="0"/>
      </c:catAx>
      <c:valAx>
        <c:axId val="86247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0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6E6-91ED-4709-BF3F-B2E99BC0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1F7-CF22-430D-81AA-E1469A46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4C0-2A36-4859-B77C-D6F765B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F8C-CD90-49F0-BDFE-270C696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A01-4C1F-4202-93CD-B794E44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C51-ED7A-428B-8864-E63D144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F4C-C056-45ED-ACA4-F7283BC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C95-E702-4BFD-9958-6A6336C4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042-E35C-49A9-A777-959F5E0F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F53-C3F2-4617-AE10-33D49C5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4DD-883A-4DD5-ABBE-17CB043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9B9-9319-41AD-B262-092A48E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1C33D-15A5-4357-88D9-CB20E328E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