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595882"/>
        <c:axId val="93068486"/>
      </c:barChart>
      <c:catAx>
        <c:axId val="135958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068486"/>
        <c:crosses val="autoZero"/>
        <c:auto val="1"/>
        <c:lblAlgn val="ctr"/>
        <c:lblOffset val="100"/>
        <c:noMultiLvlLbl val="0"/>
      </c:catAx>
      <c:valAx>
        <c:axId val="930684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958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ED4D-6D7E-4ED4-AC33-628448C7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9A0E-0258-4022-8CA9-31494181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129E-7A83-43F1-AD03-01A51471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D83E-0AEA-4D2B-B8C1-EE301636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5D88-9FB0-4276-BB66-49C2F145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A32A-AFE3-42B2-93B8-F6428995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971B-09AD-4CCA-B76C-3D870999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0CDD-C15D-4526-9C1C-F008C09D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D86F-88D7-4BEE-B47E-A5EF7325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B896-0176-469A-836E-8CE35A98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B0DD-A0CA-4188-9688-E2CF275A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B269-2F9C-4A15-AE5D-9D088402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B7CDC-BE38-41DE-8394-04DF835F05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