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96820"/>
        <c:axId val="52831057"/>
      </c:barChart>
      <c:catAx>
        <c:axId val="261968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31057"/>
        <c:crosses val="autoZero"/>
        <c:auto val="1"/>
        <c:lblAlgn val="ctr"/>
        <c:lblOffset val="100"/>
        <c:noMultiLvlLbl val="0"/>
      </c:catAx>
      <c:valAx>
        <c:axId val="528310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968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3DF0-5706-4844-8EA3-89DAFB6A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E63-442F-4937-AF18-DA89F8FD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7ECF-E3BB-4CFF-8E38-364140CC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F49E-1A9B-413C-B45D-AF5AAADE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FD1D-3BB8-464F-9CD2-902C310E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982-3584-4F13-81A6-DC94CC5A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B9A-CD5F-444E-9EDE-566F403B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C36C-DC14-458B-96AA-A80C1A77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072E-7C55-46B1-A1FA-19F3D31F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168A-AB94-42F1-ABD2-22C69894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B94-4DCA-434B-845C-93503DF5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875-D7A8-4F96-9CF4-2B42879F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9C807-BFBA-4803-8F8A-FBE30A5C89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