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55907"/>
        <c:axId val="60475834"/>
      </c:barChart>
      <c:catAx>
        <c:axId val="59155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75834"/>
        <c:crosses val="autoZero"/>
        <c:auto val="1"/>
        <c:lblAlgn val="ctr"/>
        <c:lblOffset val="100"/>
        <c:noMultiLvlLbl val="0"/>
      </c:catAx>
      <c:valAx>
        <c:axId val="60475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55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621-EBE2-404B-A4A6-4820E5B6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166-B95B-4DDC-BAE6-A7CE4363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3E3-3479-430C-868F-69B169EB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1D2-FFBF-403F-A6CE-016EF9CE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A82-3017-450A-8AC5-B085934E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EB3-C8CA-466B-8834-46A44B2C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DA33-3BF5-480E-8F10-1A2FD778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8C3-B244-4127-9269-1B9FFADB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6CE-54D3-4A32-91A0-C50FB34B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C51-9EAB-4298-AEBF-4153F137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2691-0D3E-45D8-83C5-34DEEC09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EE2-2E84-4411-97FA-D09E778B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771BF-65E1-4C5D-8946-5AACFC4828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