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633"/>
        <c:axId val="89830196"/>
      </c:barChart>
      <c:catAx>
        <c:axId val="1339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30196"/>
        <c:crosses val="autoZero"/>
        <c:auto val="1"/>
        <c:lblAlgn val="ctr"/>
        <c:lblOffset val="100"/>
        <c:noMultiLvlLbl val="0"/>
      </c:catAx>
      <c:valAx>
        <c:axId val="89830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331-26E2-4944-B62E-8641F44B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17D-33E3-47D0-892F-2B4C1710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27F-834C-4A9C-BEBC-5CF6DC43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A0B-5E36-4037-99CC-B855838E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7AC-43DD-43FB-9373-F6678742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FBF-AD6F-4A58-90B9-CBEE7F6C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70C-1302-480B-8D8A-B8911C1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09A-6E09-45F1-A9CA-9E9FCD82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EDB-8432-4274-8402-E3E5550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D7C-3CD5-48A7-B46B-D0A9CCDD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F23-1F1C-4929-A396-4C12F08F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98E-CBE5-47D2-AEF4-5D36C916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85627-3AB7-4021-A0BB-085A96F147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