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50605"/>
        <c:axId val="29147636"/>
      </c:barChart>
      <c:catAx>
        <c:axId val="28750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7636"/>
        <c:crosses val="autoZero"/>
        <c:auto val="1"/>
        <c:lblAlgn val="ctr"/>
        <c:lblOffset val="100"/>
        <c:noMultiLvlLbl val="0"/>
      </c:catAx>
      <c:valAx>
        <c:axId val="29147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50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3FD-13A0-4373-96A7-A32C8B17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2BB-EEB8-4CBE-94A0-5886E098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D99-6295-480C-AECD-10C834B2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0D1-9AD7-4EF8-AE9B-5A4D2D78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8FB-3ECE-4844-A26C-E5D4D873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B96-C3B3-4CC2-B4C1-BFE0CC96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E78-A052-40B1-A6C1-128D1CCF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A23-F478-4A74-8106-035A039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27E-FF47-4F3D-81D7-2E9CD45E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EBC-9AF4-478D-992A-5F90A45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99D-BABF-4197-AF55-25AC6C87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F6D-E536-4CC7-BF71-0217590A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70260-FA37-4058-B30F-E4AA245638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