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88648"/>
        <c:axId val="43385785"/>
      </c:barChart>
      <c:catAx>
        <c:axId val="17888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85785"/>
        <c:crosses val="autoZero"/>
        <c:auto val="1"/>
        <c:lblAlgn val="ctr"/>
        <c:lblOffset val="100"/>
        <c:noMultiLvlLbl val="0"/>
      </c:catAx>
      <c:valAx>
        <c:axId val="43385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88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64F-6A7C-49CA-986C-A77E65BD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650-F2B2-461B-8AA5-A0F1FF22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BFC-E3F4-496F-B8E9-382D61A0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F38-C749-43CB-B5D7-B1A51F24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A82-6B1F-4F6E-95CF-96B6CB41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7BD-95E0-4C4C-A9E7-3F062809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554-719A-49B1-A6A2-1105BCDD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E1D-C8C1-4DFA-AB66-B5262435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416-83BC-44CB-814A-B1DF8543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9D5-806E-4F80-A3A5-1CE8D4D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C30-608B-4611-B231-E56BC3C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C80-DC00-496C-B58D-B7465DD2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63846-5BB7-460E-96D6-E3F0FA1EDA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